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5579E-0DB3-4D34-89FE-626B05689246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4403F-6C66-4A01-859A-965B6B4163F7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3C38-61C7-43E0-8EF6-57792DF90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B303-4FB2-44D7-9CEB-E2503FA6F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22BE-B4BB-4C24-8330-C2549F64E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9A7C-3A61-41A5-8FB2-02D3CFE2F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FB12-61F8-40E7-A864-C5A33B69D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4DD1-F250-4B33-8E3E-7CF7DAF4D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3E5B-2206-47EE-8186-92142F9D2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984E-A955-4910-B8F5-BC7B75DA0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2E35-5039-4A29-BB41-9B5CA0EA1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D934-A1A8-451F-A015-446B334EF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91D5-1DD7-49D6-9C30-E80C4C3F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15F8-38CB-404D-8071-CED383D13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631BC-6989-42F3-9A10-97054EB3AA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5"/>
          <p:cNvSpPr/>
          <p:nvPr/>
        </p:nvSpPr>
        <p:spPr>
          <a:xfrm>
            <a:off x="0" y="15552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Cuando los líderes hurgan más profundo,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pueden descubrir por qué no los sigue más gente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228600" y="1410480"/>
            <a:ext cx="5867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uando la gente lo respeta como 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 amigo, lo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MAN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3429000" y="3658680"/>
            <a:ext cx="548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Cuando la gente lo respeta como persona, l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DMIR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228600" y="5420520"/>
            <a:ext cx="5410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3. Cuando la gente lo respeta como líder, lo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SIGUEN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6477120" y="1387440"/>
            <a:ext cx="2286000" cy="1957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ttp://diginomica.com/wp-content/uploads/2014/12/leader.jpg"/>
          <p:cNvPicPr/>
          <p:nvPr/>
        </p:nvPicPr>
        <p:blipFill>
          <a:blip r:embed="rId2"/>
          <a:stretch/>
        </p:blipFill>
        <p:spPr>
          <a:xfrm>
            <a:off x="85680" y="2743200"/>
            <a:ext cx="3191040" cy="25131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3"/>
          <a:srcRect l="0" t="0" r="-2794" b="0"/>
          <a:stretch/>
        </p:blipFill>
        <p:spPr>
          <a:xfrm>
            <a:off x="5486400" y="4724280"/>
            <a:ext cx="324972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5"/>
          <p:cNvSpPr/>
          <p:nvPr/>
        </p:nvSpPr>
        <p:spPr>
          <a:xfrm>
            <a:off x="76320" y="80640"/>
            <a:ext cx="90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s razones por las cuales muchos líderes no se han ganado el respeto de la gent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133200" y="1405080"/>
            <a:ext cx="626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ensan que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STATU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ÍTUL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garantizan el respe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4359240" y="3205440"/>
            <a:ext cx="4632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Piensa que l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DA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 l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PERIENCI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garantizan el respe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133200" y="4914720"/>
            <a:ext cx="6039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Su necesidad de ser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CEPTADO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por los demás es más grande que su necesidad de ser respetado por el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" descr=""/>
          <p:cNvPicPr/>
          <p:nvPr/>
        </p:nvPicPr>
        <p:blipFill>
          <a:blip r:embed="rId1"/>
          <a:srcRect l="-917" t="0" r="0" b="0"/>
          <a:stretch/>
        </p:blipFill>
        <p:spPr>
          <a:xfrm>
            <a:off x="7010280" y="1263600"/>
            <a:ext cx="1646280" cy="1736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ttp://1.bp.blogspot.com/-lKUc2tu8A3g/UA1UEYYUSnI/AAAAAAAAAQo/PkV7xN4EBwY/s1600/board_meet.gif"/>
          <p:cNvPicPr/>
          <p:nvPr/>
        </p:nvPicPr>
        <p:blipFill>
          <a:blip r:embed="rId2"/>
          <a:srcRect l="0" t="0" r="0" b="28705"/>
          <a:stretch/>
        </p:blipFill>
        <p:spPr>
          <a:xfrm>
            <a:off x="380880" y="2732040"/>
            <a:ext cx="3591000" cy="1916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3"/>
          <a:stretch/>
        </p:blipFill>
        <p:spPr>
          <a:xfrm>
            <a:off x="6765840" y="4800600"/>
            <a:ext cx="176868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5"/>
          <p:cNvSpPr/>
          <p:nvPr/>
        </p:nvSpPr>
        <p:spPr>
          <a:xfrm>
            <a:off x="273600" y="146160"/>
            <a:ext cx="835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228600" y="1517400"/>
            <a:ext cx="571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Respétese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 SÍ MISM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y a los demá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228600" y="3632040"/>
            <a:ext cx="830592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 intente ser siempre popular. No es posible agradarles a todos, por el contrario es mucho más importante agradarse a sí mismo. Cuando usted se respeta a sí mismo, curiosamente, tendrá más respeto que si lo buscara de otro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6324480" y="892080"/>
            <a:ext cx="2103480" cy="26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5"/>
          <p:cNvSpPr/>
          <p:nvPr/>
        </p:nvSpPr>
        <p:spPr>
          <a:xfrm>
            <a:off x="273600" y="146160"/>
            <a:ext cx="835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259200" y="1119240"/>
            <a:ext cx="553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speto a mí mismo significa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1023480" y="214452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lphaL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tiendo quién soy en Cris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990720" y="3087720"/>
            <a:ext cx="768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. Aprecio y sé mis talentos y dones qu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Dios me ha d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1031040" y="4307040"/>
            <a:ext cx="711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. Usualmente me desempeño bien en 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baj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1035000" y="5555160"/>
            <a:ext cx="7767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. No tomo de manera personal cada fraca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crít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>
            <a:off x="7345440" y="927000"/>
            <a:ext cx="164628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267480" y="77760"/>
            <a:ext cx="757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l respeto a los demás significa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541440" y="1027440"/>
            <a:ext cx="5859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y cuidadoso de no herir el respeto o la dignidad de nad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533520" y="2673720"/>
            <a:ext cx="6286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uedo ver a cada persona como alguien creado por Dios y talento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457200" y="4412880"/>
            <a:ext cx="8607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33440" indent="-433440">
              <a:buClr>
                <a:srgbClr val="ffffff"/>
              </a:buClr>
              <a:buFont typeface="Arial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uedo ver más allá de las fallas de otros, y ver sus necesidades y su potenc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457200" y="570816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33440" indent="-433440">
              <a:buClr>
                <a:srgbClr val="ffffff"/>
              </a:buClr>
              <a:buFont typeface="Arial"/>
              <a:buAutoNum type="alphaL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nto tratar a todos los que conozco como si fueran muy importan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" descr=""/>
          <p:cNvPicPr/>
          <p:nvPr/>
        </p:nvPicPr>
        <p:blipFill>
          <a:blip r:embed="rId1"/>
          <a:stretch/>
        </p:blipFill>
        <p:spPr>
          <a:xfrm>
            <a:off x="6700680" y="914400"/>
            <a:ext cx="22910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5"/>
          <p:cNvSpPr/>
          <p:nvPr/>
        </p:nvSpPr>
        <p:spPr>
          <a:xfrm>
            <a:off x="324720" y="384480"/>
            <a:ext cx="383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888480" y="1758240"/>
            <a:ext cx="7913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Muestra generalmente respeto 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os demás o falla en mostrarl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Por qué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888480" y="4061880"/>
            <a:ext cx="773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é ejemplos de cómo le muestr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speto a los demá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5"/>
          <p:cNvSpPr/>
          <p:nvPr/>
        </p:nvSpPr>
        <p:spPr>
          <a:xfrm>
            <a:off x="66600" y="952200"/>
            <a:ext cx="790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Exceda las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XPECTATIVA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de ot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638640" y="1668240"/>
            <a:ext cx="793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ómo exceder las expectativas de los demá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570240" y="2262240"/>
            <a:ext cx="678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lphaL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ablezca normas personales al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573480" y="2871720"/>
            <a:ext cx="715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. Conozca la expectativas de los de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576360" y="3468240"/>
            <a:ext cx="783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. Cumpla esas expectativas y vaya aún má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j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533520" y="4469040"/>
            <a:ext cx="4495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. Termine cada tarea o proyecto y luego pregunte: ¿Qué más se puede hacer para sorprender a todos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0" descr="ttp://www.callcentrehelper.com/images/stories/2010/exceed-expectations-510.jpg"/>
          <p:cNvPicPr/>
          <p:nvPr/>
        </p:nvPicPr>
        <p:blipFill>
          <a:blip r:embed="rId1"/>
          <a:stretch/>
        </p:blipFill>
        <p:spPr>
          <a:xfrm>
            <a:off x="5029200" y="4267080"/>
            <a:ext cx="3882960" cy="24098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273600" y="146160"/>
            <a:ext cx="835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5"/>
          <p:cNvSpPr/>
          <p:nvPr/>
        </p:nvSpPr>
        <p:spPr>
          <a:xfrm>
            <a:off x="1087200" y="870840"/>
            <a:ext cx="402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: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1219320" y="213768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De qué manera excede las expectativas de los demás como líd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5"/>
          <p:cNvSpPr/>
          <p:nvPr/>
        </p:nvSpPr>
        <p:spPr>
          <a:xfrm>
            <a:off x="76320" y="651960"/>
            <a:ext cx="9067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3. Manténgase firme en sus convicciones y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RINCIPIOS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152280" y="1182960"/>
            <a:ext cx="869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erdades que los líderes eficientes saben cuando dirigen a la gent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228600" y="217332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ted debe aprender a separar las opiniones de las convicc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228600" y="306504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. No puede ser un líder eficiente si no sabe lo que cre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237960" y="3965760"/>
            <a:ext cx="890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. Debe mostrar el camino y liderar a través del ejemplo para ganarse el respe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152280" y="4974120"/>
            <a:ext cx="5114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. Únicamente si está dispuesto a morir por algo, usted es realmente digno de viv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265680" y="62640"/>
            <a:ext cx="656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dificando el respeto en su lideraz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0" descr="Image result for estad firmes"/>
          <p:cNvPicPr/>
          <p:nvPr/>
        </p:nvPicPr>
        <p:blipFill>
          <a:blip r:embed="rId1"/>
          <a:stretch/>
        </p:blipFill>
        <p:spPr>
          <a:xfrm>
            <a:off x="5267160" y="4861080"/>
            <a:ext cx="3733920" cy="19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5"/>
          <p:cNvSpPr/>
          <p:nvPr/>
        </p:nvSpPr>
        <p:spPr>
          <a:xfrm>
            <a:off x="1163520" y="870840"/>
            <a:ext cx="402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: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1572840" y="1848240"/>
            <a:ext cx="727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Cuáles son sus conviccion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incipale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1568880" y="3810960"/>
            <a:ext cx="60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Qué es lo que defiend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0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46080" y="304920"/>
            <a:ext cx="909792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5"/>
          <p:cNvSpPr/>
          <p:nvPr/>
        </p:nvSpPr>
        <p:spPr>
          <a:xfrm>
            <a:off x="152280" y="983880"/>
            <a:ext cx="885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Posea un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ADUREZ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que sea mucho mayor que su edad y experienc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174600" y="2236680"/>
            <a:ext cx="523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inco signos de madurez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322560" y="2998440"/>
            <a:ext cx="39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Responsabilid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316440" y="3760560"/>
            <a:ext cx="268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Confianz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318240" y="4446360"/>
            <a:ext cx="29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 Coherenc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0"/>
          <p:cNvSpPr/>
          <p:nvPr/>
        </p:nvSpPr>
        <p:spPr>
          <a:xfrm>
            <a:off x="316800" y="5284440"/>
            <a:ext cx="239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Carác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1"/>
          <p:cNvSpPr/>
          <p:nvPr/>
        </p:nvSpPr>
        <p:spPr>
          <a:xfrm>
            <a:off x="317520" y="6122880"/>
            <a:ext cx="273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Segurid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1" descr="ttp://www.desmotivar.com/img/desmotivaciones/159731_la-madurez-esta-en-la-mente.jpg"/>
          <p:cNvPicPr/>
          <p:nvPr/>
        </p:nvPicPr>
        <p:blipFill>
          <a:blip r:embed="rId1"/>
          <a:stretch/>
        </p:blipFill>
        <p:spPr>
          <a:xfrm>
            <a:off x="5554800" y="2743200"/>
            <a:ext cx="3452760" cy="40006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5"/>
          <p:cNvSpPr/>
          <p:nvPr/>
        </p:nvSpPr>
        <p:spPr>
          <a:xfrm>
            <a:off x="263520" y="176760"/>
            <a:ext cx="745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5"/>
          <p:cNvSpPr/>
          <p:nvPr/>
        </p:nvSpPr>
        <p:spPr>
          <a:xfrm>
            <a:off x="1163520" y="947160"/>
            <a:ext cx="402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: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1796040" y="2080800"/>
            <a:ext cx="625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Qué señales de madurez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muestra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1752480" y="3546720"/>
            <a:ext cx="542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De cuáles care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0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5"/>
          <p:cNvSpPr/>
          <p:nvPr/>
        </p:nvSpPr>
        <p:spPr>
          <a:xfrm>
            <a:off x="76320" y="878040"/>
            <a:ext cx="87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Experimente 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ÉXIT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n su carrera, familia y en su vida pers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152280" y="1983240"/>
            <a:ext cx="5334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definición de John Maxwell acerca del éxito es: “cuando aquellos que están más cerca de mí, son los que más me aman y me respetan”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0" descr="ttp://careersuccess.typepad.com/.a/6a0105360968fe970b012876bca67f970c-800wi"/>
          <p:cNvPicPr/>
          <p:nvPr/>
        </p:nvPicPr>
        <p:blipFill>
          <a:blip r:embed="rId1"/>
          <a:stretch/>
        </p:blipFill>
        <p:spPr>
          <a:xfrm>
            <a:off x="5511960" y="3187800"/>
            <a:ext cx="3479760" cy="347976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5"/>
          <p:cNvSpPr/>
          <p:nvPr/>
        </p:nvSpPr>
        <p:spPr>
          <a:xfrm>
            <a:off x="273240" y="191880"/>
            <a:ext cx="773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(cont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0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5"/>
          <p:cNvSpPr/>
          <p:nvPr/>
        </p:nvSpPr>
        <p:spPr>
          <a:xfrm>
            <a:off x="22320" y="595440"/>
            <a:ext cx="87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Experimente 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ÉXIT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n su carrera, familia y en su vida pers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135000" y="1893960"/>
            <a:ext cx="9088200" cy="27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ra ganar el respeto como líder, el éxito debe…</a:t>
            </a:r>
            <a:br>
              <a:rPr sz="28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ar en la familia, en la carrera y en la vida personal. </a:t>
            </a:r>
            <a:br>
              <a:rPr sz="28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r notado por los demás sin qu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líder llame la atención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0" descr="ttp://careersuccess.typepad.com/.a/6a0105360968fe970b012876bca67f970c-800wi"/>
          <p:cNvPicPr/>
          <p:nvPr/>
        </p:nvPicPr>
        <p:blipFill>
          <a:blip r:embed="rId1"/>
          <a:stretch/>
        </p:blipFill>
        <p:spPr>
          <a:xfrm>
            <a:off x="6621480" y="4208400"/>
            <a:ext cx="2387520" cy="238932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5"/>
          <p:cNvSpPr/>
          <p:nvPr/>
        </p:nvSpPr>
        <p:spPr>
          <a:xfrm>
            <a:off x="255600" y="71280"/>
            <a:ext cx="764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dificando el respeto en su liderazgo 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0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4120" y="1154160"/>
            <a:ext cx="22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447840" y="1757880"/>
            <a:ext cx="8696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En dónde se encuentra más fuerte o más débil en las siguientes áreas: Vida personal / Vida familia / Carrera exitos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0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5"/>
          <p:cNvSpPr/>
          <p:nvPr/>
        </p:nvSpPr>
        <p:spPr>
          <a:xfrm>
            <a:off x="185040" y="772920"/>
            <a:ext cx="574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Contribuya al éxito d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OTRO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76320" y="1440360"/>
            <a:ext cx="8305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No existe más noble ocupación en el mundo que ayudar a otro ser humano a lograr el éxit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an Loy McGinn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393840" y="3137040"/>
            <a:ext cx="5016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•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s agregamos valor a los demás cuando los valoramos verdaderament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5715000" y="3614760"/>
            <a:ext cx="3259080" cy="32194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5"/>
          <p:cNvSpPr/>
          <p:nvPr/>
        </p:nvSpPr>
        <p:spPr>
          <a:xfrm>
            <a:off x="273240" y="77760"/>
            <a:ext cx="773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(cont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0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1155240" y="1479600"/>
            <a:ext cx="21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1023480" y="2136960"/>
            <a:ext cx="629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Qué hace específicament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para añadirles valor a los demá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0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179640" y="849240"/>
            <a:ext cx="64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. Piens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ÁS ALLÁ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que los demás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273960" y="1449360"/>
            <a:ext cx="593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líderes que ganan el respet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63440" y="2395440"/>
            <a:ext cx="837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ensan más en grande que los de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106200" y="3278160"/>
            <a:ext cx="839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ensan más allá que los demá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163440" y="4194360"/>
            <a:ext cx="433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ensan antes que otros lo hag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" descr=""/>
          <p:cNvPicPr/>
          <p:nvPr/>
        </p:nvPicPr>
        <p:blipFill>
          <a:blip r:embed="rId1"/>
          <a:stretch/>
        </p:blipFill>
        <p:spPr>
          <a:xfrm>
            <a:off x="4724280" y="3959280"/>
            <a:ext cx="4292640" cy="281772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5"/>
          <p:cNvSpPr/>
          <p:nvPr/>
        </p:nvSpPr>
        <p:spPr>
          <a:xfrm>
            <a:off x="120960" y="1440"/>
            <a:ext cx="773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(cont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0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5"/>
          <p:cNvSpPr/>
          <p:nvPr/>
        </p:nvSpPr>
        <p:spPr>
          <a:xfrm>
            <a:off x="1088280" y="1297800"/>
            <a:ext cx="325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1102680" y="2747520"/>
            <a:ext cx="7567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Qué le impide ver más allá y pens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 grande?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0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6"/>
          <p:cNvSpPr/>
          <p:nvPr/>
        </p:nvSpPr>
        <p:spPr>
          <a:xfrm>
            <a:off x="185760" y="65160"/>
            <a:ext cx="8577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aso de las siete características para edificar el respeto como líd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0" y="11462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Respétese a sí mismo y a los que trabajan con us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0" y="20588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Exceda las expectativas de los de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9"/>
          <p:cNvSpPr/>
          <p:nvPr/>
        </p:nvSpPr>
        <p:spPr>
          <a:xfrm>
            <a:off x="0" y="26704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Manténgase firme en sus convicciones  y princip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0"/>
          <p:cNvSpPr/>
          <p:nvPr/>
        </p:nvSpPr>
        <p:spPr>
          <a:xfrm>
            <a:off x="0" y="366084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Posea una madurez que sea mucho mayor que su edad y experienc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0" y="465156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Experimente el éxito en su carrera, en su familia, y en su vida pers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0" y="5726160"/>
            <a:ext cx="659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Contribuya al éxito de otr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0" y="6326280"/>
            <a:ext cx="72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. Piense más allá que los demá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0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623520" y="946080"/>
            <a:ext cx="237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valuació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1108440" y="1608120"/>
            <a:ext cx="7553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 las siete características anteriores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 líder respetado, ¿cuáles cree que h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turalmente? ¿En cuáles neces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jor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623160" y="3537000"/>
            <a:ext cx="21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plicació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1192320" y="4119840"/>
            <a:ext cx="7065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lexione y escriba un paso de a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e puede tomar para crecer en s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fluencia pers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nodeType="clickEffect" fill="hold">
                      <p:stCondLst>
                        <p:cond delay="0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1295280" y="617400"/>
            <a:ext cx="655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AS RESPUESTAS ESTÁN EN EL FIN DEL LIB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344520" y="3213000"/>
            <a:ext cx="8454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PREGUNTA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MENTARI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Graphical user interface&#10;&#10;Description automatically generated with low confidence"/>
          <p:cNvPicPr/>
          <p:nvPr/>
        </p:nvPicPr>
        <p:blipFill>
          <a:blip r:embed="rId1"/>
          <a:stretch/>
        </p:blipFill>
        <p:spPr>
          <a:xfrm>
            <a:off x="2101680" y="380880"/>
            <a:ext cx="429912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6 Imagen" descr="Fondo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876240" y="1075680"/>
            <a:ext cx="77342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rial"/>
              </a:rPr>
              <a:t>Cómo ganarse a la gente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1842480" y="3355200"/>
            <a:ext cx="583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Volume 2, Manual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8 Imagen" descr="Fondo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6"/>
          <p:cNvSpPr/>
          <p:nvPr/>
        </p:nvSpPr>
        <p:spPr>
          <a:xfrm>
            <a:off x="750960" y="1534320"/>
            <a:ext cx="83930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ección 1: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l derecho de tener seguidor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5"/>
          <p:cNvSpPr/>
          <p:nvPr/>
        </p:nvSpPr>
        <p:spPr>
          <a:xfrm>
            <a:off x="228600" y="155880"/>
            <a:ext cx="877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s maneras frecuentes en las que los líd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quieren influencia con la g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228600" y="1558080"/>
            <a:ext cx="655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der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ICION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– Se manifiesta cuando los líderes usan su título y posición para conseguir que los demás lo sig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3662280" y="3885120"/>
            <a:ext cx="55580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der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ERSON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– Se manifiesta cuando los líderes ejercitan sanamente sus capacidades relacionales para ganarse el derecho de lider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ttp://www.illustrationsof.com/royalty-free-authority-clipart-illustration-47628.jpg"/>
          <p:cNvPicPr/>
          <p:nvPr/>
        </p:nvPicPr>
        <p:blipFill>
          <a:blip r:embed="rId1"/>
          <a:stretch/>
        </p:blipFill>
        <p:spPr>
          <a:xfrm>
            <a:off x="6734160" y="914400"/>
            <a:ext cx="2266920" cy="2666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ttp://radhanathswamionline.com/wp-content/uploads/2012/04/Ideal-Leader.jpg"/>
          <p:cNvPicPr/>
          <p:nvPr/>
        </p:nvPicPr>
        <p:blipFill>
          <a:blip r:embed="rId2"/>
          <a:stretch/>
        </p:blipFill>
        <p:spPr>
          <a:xfrm>
            <a:off x="195120" y="4038480"/>
            <a:ext cx="33861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480240" y="1153440"/>
            <a:ext cx="346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533520" y="227340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71680" indent="-571680"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Puede pensar en un ejemplo de cómo la gente de influencia motiva y moviliza a los demás sin usar un títul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5"/>
          <p:cNvSpPr/>
          <p:nvPr/>
        </p:nvSpPr>
        <p:spPr>
          <a:xfrm>
            <a:off x="771480" y="306000"/>
            <a:ext cx="715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bteniendo el respeto de los dem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152280" y="1147320"/>
            <a:ext cx="748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s preguntas silenciosas que cada seguidor le hace a su líder s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538200" y="2973600"/>
            <a:ext cx="515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. ¿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CONFÍO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en usted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8"/>
          <p:cNvSpPr/>
          <p:nvPr/>
        </p:nvSpPr>
        <p:spPr>
          <a:xfrm>
            <a:off x="4572720" y="5716440"/>
            <a:ext cx="37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¿L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ESPET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5943600" y="2293920"/>
            <a:ext cx="2438280" cy="2919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https://encrypted-tbn2.gstatic.com/images?q=tbn:ANd9GcTEkDdjym9_FubAYIxfatTX8A8dhvwHU_-uzbUcC5jRXxUopn8U"/>
          <p:cNvPicPr/>
          <p:nvPr/>
        </p:nvPicPr>
        <p:blipFill>
          <a:blip r:embed="rId2"/>
          <a:srcRect l="0" t="-837" r="0" b="0"/>
          <a:stretch/>
        </p:blipFill>
        <p:spPr>
          <a:xfrm>
            <a:off x="736560" y="4267080"/>
            <a:ext cx="3530520" cy="23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0T00:54:43Z</dcterms:created>
  <dc:creator>montecyr@yahoo.com</dc:creator>
  <dc:description/>
  <dc:language>en-US</dc:language>
  <cp:lastModifiedBy>Monte Cyr</cp:lastModifiedBy>
  <dcterms:modified xsi:type="dcterms:W3CDTF">2021-02-20T04:02:06Z</dcterms:modified>
  <cp:revision>13</cp:revision>
  <dc:subject/>
  <dc:title>PowerPoint Presentation</dc:title>
</cp:coreProperties>
</file>